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B7F-9393-4FAB-A9B8-C1C1EAC1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9E8-CFBA-447B-BE6D-DF21FB21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54F-A37A-4792-BC06-3AFA5294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383-BDE6-4286-AB47-2FE035F8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459-2B5B-4811-B738-6C1102D4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45D-AC68-42C0-8DC8-D7F1A313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F7A-1BAB-4127-8A21-8EF39DCD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BED7-483C-4BCA-8DCF-859300C4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7C8F-B0AF-42C4-95F7-97282004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F4F-664B-4854-BB9F-B6EF1197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985C-79D5-4C22-97C7-7F9FEADD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E43-BD78-489A-8EDD-B6771849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E10C-2A0B-4404-8593-6C161D9C8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heclipartdirectory.com/clipart/Body/Nose/nose24_tnb.png&amp;imgrefurl=http://www.theclipartdirectory.com/clipart/Body/Nose/nose24_tnb.html&amp;usg=__0iWNYp3i1v9R0hSxfy0miQK1k3U=&amp;h=350&amp;w=350&amp;sz=27&amp;hl=en&amp;start=18&amp;itbs=1&amp;tbnid=T1v6-9sNNBJbvM:&amp;tbnh=120&amp;tbnw=120&amp;prev=/images%3Fq%3Dnose%2Bclip%2Bart%26hl%3Den%26safe%3Dactive%26sa%3DN%26gbv%3D2%26ndsp%3D18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Who’s better at determining a persons gender by looking at there nose? Male or fem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3124080" cy="1752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62720" y="44197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1584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’s better determining a persons gender by looking at someone's nose? Male or fem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 don’t think you will be able to tell the gend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 don’t think you could tell cause it just a nose and most of them look the same its not like you can tell by if its big or small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tyn, Taryn, Jessica, Kendra, Kayli, and Kand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eb, Taylor, Luc, Gus, Alex, and Dy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yli, Yahaira, Jordan, and Tay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 will take a picture of 6 girls and 6 boys nose and then print them out. Then I will have 4 people guess. Then they will guess and see if they can tell what g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5720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4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: 3 male 1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: 4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lan: 4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y: 3 male 1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b: 2 male 2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tyn: 3 male 1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dra:3 male 1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sica: 4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yn: 3 female 1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ckyn: 4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dra: 4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you can if you really look at it cause most people got them right. I was wrong I didn’t think you could guess the gender by somebody's n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28600"/>
            <a:ext cx="160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9:38:37Z</dcterms:created>
  <dc:creator>USD376</dc:creator>
  <dc:description/>
  <dc:language>en-US</dc:language>
  <cp:lastModifiedBy>USD376</cp:lastModifiedBy>
  <dcterms:modified xsi:type="dcterms:W3CDTF">2010-04-30T14:27:41Z</dcterms:modified>
  <cp:revision>12</cp:revision>
  <dc:subject/>
  <dc:title>Slide 1</dc:title>
</cp:coreProperties>
</file>